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89D5C-1F19-4455-A9DF-1AC07E91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E70CC-9A60-4517-9237-69FE4BE9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9056F-2A06-4D9A-93A8-1A47FCC0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4124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108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6176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4124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108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9D68D-077A-4C8B-B72F-2A694399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87B2-E60B-4334-A274-4203B441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EF41-D838-4D92-9D95-E306AB4A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BFFE-DB4E-4D8E-893C-27018728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A83D-AEA7-40BB-B401-47D947B6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C2AD-0508-4F3C-AFCF-0F2E6AD2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440" y="8380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A893-97C5-422B-8334-63B0EBC5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F015-2389-4AF5-90FA-5551ADB0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734AB-43F7-4ADC-859B-EE81639E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C91F-F88F-4213-9D24-E7BF4E55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047D-91B5-48BB-A601-E3E22383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14F3-157B-4746-8402-106EE6D4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E86D-37AA-4A58-8292-AD9FC3EE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4124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108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76176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4124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108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2192-175B-4420-9319-27FF3A50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B713C-A6CE-431F-9D45-67731A9D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8192-E6DF-4FB2-AA3A-9158AF5E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377B9-7C7E-4091-8864-4E4083E2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440" y="8380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6882C-B908-4443-A6E8-5D45B27B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4025-89E3-4B83-B1A9-4D43C317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AEF02-78CA-4B96-946D-8C194BDA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44EDC-57BA-4E41-81A8-0BF9BC5E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96FD-F6A0-4648-9712-682C3796F3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04920" y="304920"/>
            <a:ext cx="8229240" cy="456840"/>
            <a:chOff x="304920" y="304920"/>
            <a:chExt cx="8229240" cy="456840"/>
          </a:xfrm>
        </p:grpSpPr>
        <p:sp>
          <p:nvSpPr>
            <p:cNvPr id="3" name=""/>
            <p:cNvSpPr/>
            <p:nvPr/>
          </p:nvSpPr>
          <p:spPr>
            <a:xfrm>
              <a:off x="304920" y="304920"/>
              <a:ext cx="257040" cy="446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76440" y="417600"/>
              <a:ext cx="7857720" cy="229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73560" y="417600"/>
              <a:ext cx="123840" cy="1180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97400" y="304920"/>
              <a:ext cx="125640" cy="115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97400" y="417600"/>
              <a:ext cx="125640" cy="118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1880" y="534600"/>
              <a:ext cx="122760" cy="115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23360" y="419040"/>
              <a:ext cx="126720" cy="115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73560" y="532080"/>
              <a:ext cx="123840" cy="1155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51880" y="647640"/>
              <a:ext cx="122760" cy="114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80880" y="380880"/>
            <a:ext cx="8381880" cy="6172200"/>
            <a:chOff x="380880" y="380880"/>
            <a:chExt cx="8381880" cy="6172200"/>
          </a:xfrm>
        </p:grpSpPr>
        <p:sp>
          <p:nvSpPr>
            <p:cNvPr id="52" name=""/>
            <p:cNvSpPr/>
            <p:nvPr/>
          </p:nvSpPr>
          <p:spPr>
            <a:xfrm>
              <a:off x="380880" y="380880"/>
              <a:ext cx="3213000" cy="617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53720" y="1902240"/>
              <a:ext cx="6809040" cy="2280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80880" y="1340640"/>
              <a:ext cx="2627640" cy="2841120"/>
              <a:chOff x="380880" y="1340640"/>
              <a:chExt cx="2627640" cy="2841120"/>
            </a:xfrm>
          </p:grpSpPr>
          <p:sp>
            <p:nvSpPr>
              <p:cNvPr id="55" name=""/>
              <p:cNvSpPr/>
              <p:nvPr/>
            </p:nvSpPr>
            <p:spPr>
              <a:xfrm>
                <a:off x="906120" y="3605040"/>
                <a:ext cx="528120" cy="576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53720" y="1901880"/>
                <a:ext cx="526320" cy="578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71760" y="1340640"/>
                <a:ext cx="536760" cy="571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427040" y="3605040"/>
                <a:ext cx="534960" cy="5767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71760" y="1901880"/>
                <a:ext cx="536760" cy="578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427040" y="2472120"/>
                <a:ext cx="534960" cy="569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2472120"/>
                <a:ext cx="533880" cy="569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53720" y="2472120"/>
                <a:ext cx="526320" cy="569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06120" y="3033360"/>
                <a:ext cx="528120" cy="579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427040" y="3033360"/>
                <a:ext cx="534960" cy="5796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FAC8-C7F7-4C66-AD2B-AD4C5464A0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al-Time Logic – a brief 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601120" y="6172200"/>
            <a:ext cx="5428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 (1/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733920" y="1980720"/>
            <a:ext cx="4952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, redundant control for nuclear reactor (two control rod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system starts moving the rod within 5 time units from manager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completed in 20 time un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eedback on the manager; it must wait at least 30 time units before granting another requ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844720" cy="487512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65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 (2/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ystem 1 (subsystem 2 is equivalen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6553080" cy="1168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467480" cy="99540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72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"/>
          <p:cNvSpPr/>
          <p:nvPr/>
        </p:nvSpPr>
        <p:spPr>
          <a:xfrm>
            <a:off x="762120" y="2362320"/>
            <a:ext cx="1447560" cy="30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on1 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26668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19720" y="2362320"/>
            <a:ext cx="1904760" cy="30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request to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410080" y="266688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3429000"/>
            <a:ext cx="19047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 by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790960" y="365760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 (3/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7086600" cy="235440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84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: safety propert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use the specification to check if interesting properties ho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the two rods must not be moving simultaneous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perty can be proved true with a 25-nodes inference tre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562720" cy="101448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90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ome theoretical resul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be proven that general RTL is undecidable (reduction to a two counter machi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able subset exists: conjunctions of formulas                                    , where       is a quantifier (           ) and      is of form: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actice, a decision algorithm is provided for specification expressed in Modech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95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248520" y="2590920"/>
                <a:ext cx="21034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∨</m:t>
                    </m:r>
                    <m:r>
                      <m:t xml:space="preserve">…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905120" y="2895480"/>
                <a:ext cx="2491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886200" y="2895480"/>
                <a:ext cx="457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,</m:t>
                    </m:r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5010120" y="2865600"/>
                <a:ext cx="2905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295280" y="3276720"/>
                <a:ext cx="2916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dechar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581280" y="198072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since ‘88 as a practical specification tool built on top of RT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s hierarchical statecharts with timing constrai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: the classic railroad-crossing probl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 constraint: (r,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: transition delay (minimum time before tran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 transition deadline (max time to tran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trivially converted in a RTL specif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ety require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056040" cy="5029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886200" y="4876920"/>
                <a:ext cx="439596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rPr>
                        <m:lit/>
                        <m:nor/>
                      </m:rPr>
                      <m:t xml:space="preserve">DOWN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rPr>
                        <m:lit/>
                        <m:nor/>
                      </m:rPr>
                      <m:t xml:space="preserve">CROSSING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572000" y="5257800"/>
                <a:ext cx="39369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↓</m:t>
                    </m:r>
                    <m:r>
                      <m:rPr>
                        <m:lit/>
                        <m:nor/>
                      </m:rPr>
                      <m:t xml:space="preserve">CROSSING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↓</m:t>
                    </m:r>
                    <m:r>
                      <m:rPr>
                        <m:lit/>
                        <m:nor/>
                      </m:rPr>
                      <m:t xml:space="preserve">DOWN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08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del checking on Modechar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icit-state model checking is possible on Modechart-generated RTL spec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a finit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mputation grap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om the Modechart specif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properties expressed in decidable RTL by model checking the computation graph (several subclasses of RTL supporte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building the comp. graph as a simple state reachability graph is not enough – a state may be unreachable due to timing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annotate each node in the comp. graph with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vent 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 set of timing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nodes in the graph are isomorphic iff they share the same state, event set and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tance equival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dition ho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lways possible to obtain a finite comp.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13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: comp. graph for railroad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486400" cy="477972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18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ome remarks (1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checking Modecharts is computationally expensive in both time &amp;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a subgraph of timing constraints to derive information for each node in the comp. gra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stance equivalence is not satisfied we can get a state explo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ymbolic modelchec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when considering a reduced decidable subset RTL is fairly powerful, bu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perform efficient model checking we need to add further restriction. Ex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properties are not amenable to be expressed in RTL. Ex: sums of execution ti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600200" y="4648320"/>
            <a:ext cx="4038480" cy="533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523880" y="5791320"/>
                <a:ext cx="4989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j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4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25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ome remarks (2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inclusion in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nitoring Oriented Programm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s need to be associated with absolute timing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a reasonable RTL subset decidable for finite trac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an efficient monitor (forward reasoning) seems har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is logic really what we want for (run-time) verification of real-time programs? Open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30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order logic especially designed for the specification of real-time systems; originally proposed in [Jahanian &amp; Mok, 86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s represented explici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ic atoms are not state predicate bu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v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.e. state transitio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     has (possibly infinite)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curren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iming information is expressed by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currence rel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: the ith occurrence of     happens at time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a simple real-time period task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TL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690640" y="3986280"/>
                <a:ext cx="187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162840" y="3917880"/>
                <a:ext cx="9572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269120" y="4214880"/>
                <a:ext cx="854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497400" y="4511520"/>
                <a:ext cx="187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200560" y="4518000"/>
                <a:ext cx="14472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0880" y="5638680"/>
                <a:ext cx="54374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ART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INISH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71520" y="5181480"/>
                <a:ext cx="56880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ART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ART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6086160" y="4952880"/>
            <a:ext cx="2819880" cy="533520"/>
            <a:chOff x="6086160" y="4952880"/>
            <a:chExt cx="2819880" cy="533520"/>
          </a:xfrm>
        </p:grpSpPr>
        <p:sp>
          <p:nvSpPr>
            <p:cNvPr id="118" name=""/>
            <p:cNvSpPr/>
            <p:nvPr/>
          </p:nvSpPr>
          <p:spPr>
            <a:xfrm>
              <a:off x="6772320" y="4952880"/>
              <a:ext cx="2133720" cy="5335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IOD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TRA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86160" y="5257800"/>
              <a:ext cx="685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857920" y="5715000"/>
            <a:ext cx="3048120" cy="533520"/>
            <a:chOff x="5857920" y="5715000"/>
            <a:chExt cx="3048120" cy="533520"/>
          </a:xfrm>
        </p:grpSpPr>
        <p:sp>
          <p:nvSpPr>
            <p:cNvPr id="121" name=""/>
            <p:cNvSpPr/>
            <p:nvPr/>
          </p:nvSpPr>
          <p:spPr>
            <a:xfrm>
              <a:off x="6772320" y="5715000"/>
              <a:ext cx="2133720" cy="533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AD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TRA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5857920" y="5867280"/>
              <a:ext cx="914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30481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776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2988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9200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5376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588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800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3976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188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400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8001000" y="3200400"/>
                <a:ext cx="1443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2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153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yntax (1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 of numeric constan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 of events symbo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of time variab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of occurrences variab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            as syntactic sug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              as s.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55920" y="2286000"/>
                <a:ext cx="457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,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117880" y="2606760"/>
                <a:ext cx="2505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255920" y="2590920"/>
                <a:ext cx="15685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,2,3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d>
                    <m:r>
                      <m:t xml:space="preserve">∈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098800" y="2919240"/>
                <a:ext cx="250560" cy="2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065320" y="3537000"/>
                <a:ext cx="2714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057400" y="384192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00200" y="449568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4800600"/>
                <a:ext cx="230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576440" y="5065560"/>
                <a:ext cx="43956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225520" y="5052960"/>
                <a:ext cx="66996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590840" y="5338800"/>
                <a:ext cx="7315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,</m:t>
                    </m:r>
                    <m:r>
                      <m:t xml:space="preserve">∧</m:t>
                    </m:r>
                    <m:r>
                      <m:t xml:space="preserve">,</m:t>
                    </m:r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389320" y="5342040"/>
                <a:ext cx="7747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→</m:t>
                    </m:r>
                    <m:r>
                      <m:t xml:space="preserve">,</m:t>
                    </m:r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170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yntax (2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ic cons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ursive applic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ic cons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rrenc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ursive applic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     an event constant,      an occurrence term,     a time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f                        to time ter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f                        to occurrence ter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first-order logic applic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555920" y="4724280"/>
                <a:ext cx="457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,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23880" y="5029200"/>
                <a:ext cx="854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336840" y="2341440"/>
                <a:ext cx="2509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352680" y="3537000"/>
                <a:ext cx="2509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62440" y="2590920"/>
                <a:ext cx="2714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565440" y="3833640"/>
                <a:ext cx="250920" cy="2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841920" y="2948040"/>
                <a:ext cx="230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09880" y="4159080"/>
                <a:ext cx="23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968560" y="5105520"/>
                <a:ext cx="187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025960" y="5052960"/>
                <a:ext cx="14616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128000" y="5064120"/>
                <a:ext cx="14580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895480" y="5334120"/>
                <a:ext cx="113184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&lt;</m:t>
                    </m:r>
                    <m:r>
                      <m:t xml:space="preserve">,</m:t>
                    </m:r>
                    <m:r>
                      <m:t xml:space="preserve">≤</m:t>
                    </m:r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895480" y="5638680"/>
                <a:ext cx="1131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&lt;</m:t>
                    </m:r>
                    <m:r>
                      <m:t xml:space="preserve">,</m:t>
                    </m:r>
                    <m:r>
                      <m:t xml:space="preserve">≤</m:t>
                    </m:r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149800" y="5907240"/>
                <a:ext cx="14842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,</m:t>
                    </m:r>
                    <m:r>
                      <m:t xml:space="preserve">∧</m:t>
                    </m:r>
                    <m:r>
                      <m:t xml:space="preserve">,</m:t>
                    </m:r>
                    <m:r>
                      <m:t xml:space="preserve">∨</m:t>
                    </m:r>
                    <m:r>
                      <m:t xml:space="preserve">,</m:t>
                    </m:r>
                    <m:r>
                      <m:t xml:space="preserve">→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,</m:t>
                    </m:r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18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mantic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eric constants       with      ,                     are assigned standard natural numbers semantics (Presburger arithmeti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nstant event symbol in      is assigned a distinct event in an event set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ssigned the occurrence relation, i.e. a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xioms (monotonicit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 rules are derived from first-order log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formed formulas have no free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589200" y="1996920"/>
                <a:ext cx="2509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495680" y="2057400"/>
                <a:ext cx="23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924440" y="2028960"/>
                <a:ext cx="113184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&lt;</m:t>
                    </m:r>
                    <m:r>
                      <m:t xml:space="preserve">,</m:t>
                    </m:r>
                    <m:r>
                      <m:t xml:space="preserve">≤</m:t>
                    </m:r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348080" y="2635200"/>
                <a:ext cx="2494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600200" y="289548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19320" y="3200400"/>
                <a:ext cx="25056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716880" y="3200400"/>
                <a:ext cx="11476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Ν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6477120" cy="89676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02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vent Types (1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ase specification, we can add additional semantic to       dividing events in three possibl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events are caused by user interaction or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: button press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nd Stop events are associated wit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ctivities in the system that last a non null length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n action        ,           is the start event and          the stop ev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Events represent changes to the state of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 state predicate        ,              and                 represent the transition ev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ing on initial conditions, either                            or                           must ho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transition events are still numbered based on occurrences! If                  , then in                             ,       is the first time the state predicate becomes fal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018200" y="200196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57720" y="2940120"/>
                <a:ext cx="140004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BUTTON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743200" y="3809880"/>
                <a:ext cx="2714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182760" y="3780000"/>
                <a:ext cx="4590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796000" y="3794040"/>
                <a:ext cx="4586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↓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581280" y="4419720"/>
                <a:ext cx="20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943440" y="4422600"/>
                <a:ext cx="8175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227560" y="4419720"/>
                <a:ext cx="7952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000760" y="4984920"/>
                <a:ext cx="1530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792840" y="4992840"/>
                <a:ext cx="1530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613640" y="5511960"/>
                <a:ext cx="1530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397240" y="5772240"/>
                <a:ext cx="15080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1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145040" y="5811840"/>
                <a:ext cx="14760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vent Types (2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axioms to cover event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/stop axiom (for each action      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ition axioms (for each state predicate   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579920" y="2333520"/>
                <a:ext cx="2714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5257800" cy="478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486400" y="3200400"/>
                <a:ext cx="20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523880" y="3657600"/>
            <a:ext cx="5334120" cy="228456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2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re syntactic sugar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  is a variable and    is a numeric constant, then           is s.s. for    add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define an additional operator              associated with partial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ccurrence 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such that                                   (i.e., it provides the time of the ith occurrency of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rewrite the periodic task specification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327320" y="2077920"/>
                <a:ext cx="20772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286080" y="2057400"/>
                <a:ext cx="18720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324480" y="2057400"/>
                <a:ext cx="43668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005440" y="2622600"/>
                <a:ext cx="747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36920" y="2879640"/>
                <a:ext cx="129384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Ν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715000" y="2895480"/>
                <a:ext cx="22226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386320" y="3224160"/>
                <a:ext cx="187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41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981080" y="4246560"/>
                <a:ext cx="30006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↓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992240" y="3789360"/>
                <a:ext cx="32083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re syntactic sugar: state predicat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ime terms          , the state predicate           (      is true in time interval         ) is s.s.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boundary conditions are possible (definitions are trivial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x  :              occurs at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x  :              occurs before or at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 :              occurs before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]  :              occurs at 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)  :              occurs after or at 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&gt; :              occurs after 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971800" y="2057400"/>
                <a:ext cx="43668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586480" y="1996920"/>
                <a:ext cx="664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416640" y="2028960"/>
                <a:ext cx="208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981080" y="2286000"/>
                <a:ext cx="519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5105160" cy="38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905120" y="3581280"/>
                <a:ext cx="8096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905120" y="3886200"/>
                <a:ext cx="80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905120" y="4191120"/>
                <a:ext cx="80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914480" y="4495680"/>
                <a:ext cx="789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914480" y="4800600"/>
                <a:ext cx="789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905120" y="5105520"/>
                <a:ext cx="788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5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7:46:28Z</dcterms:created>
  <dc:creator>Enzhou Wang</dc:creator>
  <dc:description/>
  <dc:language>en-US</dc:language>
  <cp:lastModifiedBy>Rodolfo Pellizzoni</cp:lastModifiedBy>
  <dcterms:modified xsi:type="dcterms:W3CDTF">2006-07-24T20:02:14Z</dcterms:modified>
  <cp:revision>130</cp:revision>
  <dc:subject/>
  <dc:title>An Extensible Choices System Interface </dc:title>
</cp:coreProperties>
</file>